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B2AE-75BC-4BFE-8BEE-AEF6AA6CE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C570-62CB-4570-A93D-6A4B8CE0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DC4B-1D08-4317-B6EF-21FDE8C3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0192-F391-49D8-8EF7-1711083CB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82D35-9C5D-4B56-88D6-5722838C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DA4E-C89C-4858-BCD0-4D8CA62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EABDC-E10B-492C-8B49-A5562F52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F453-0538-4D06-84C7-AF917A26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0573-531C-41A9-A474-97471942E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9FCAB-EA3B-4CA4-887C-5FA56DF63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965A-826D-4717-B0F4-5C43538D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16DA-B4B7-40EF-8549-4B6B521D9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4C59A-0ACE-4CFB-9D46-286713806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97729-2BAF-4D81-9F58-2697606E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B5CF-8656-446D-99A2-5F2514032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D407-20AD-410F-9473-91837CD78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27811-3C07-487B-9847-51126E142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A8A49-A2FF-4C21-A031-B7D508009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8038D-212E-4968-B138-4157CB6B3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712D7-FBAD-46FE-B184-29B761B0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CD313-2E7F-4B7E-8BCD-A1907B7B4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52EE5-300B-4925-A3E4-1A4D7E1E8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34B6-522E-40AD-9A9E-80406B5B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F6C030-DCA7-4B26-B8FB-FEF9D7D9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F7E85-C1D8-476E-95DD-90F3F2721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6C78E-D663-4054-A0B0-A7B6F584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3F7E7-3261-486C-BF6D-17518CA91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1E8C-4E75-4617-9324-7FAD7A9FD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4AD63-4D3D-4EB0-9E49-407787CDA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B0F05A-09BA-47EF-8C02-81A3308A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DF4BE-4B32-4AE5-86A2-FCC0ADC0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0292D-79D0-4F26-B3F0-BE371BB1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3CB2D-7DE9-46BA-9794-86EC27407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9AC1-7C1B-4CBA-9EC8-10FD7906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95586-9445-4BF3-8038-5C13DB73E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169647-C79B-4923-8DBA-0DBB4846E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2BEC3-B5CC-44B0-8773-2FF73C1B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62229-E6FE-4D8C-8DFB-4F2F52CD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CA0FB6-5345-4547-B3ED-2A13B4CE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5DC03-12C5-4FC3-8957-E6C72247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86ABA-19FB-41BC-A506-E425D5299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53F84-961E-466E-BB5D-1C48278D1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5F1DC7-B5CF-42DD-BB12-CDE795952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125F1C-E1A9-485F-8EAC-B4737129AA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CF21-4A41-4CA0-8699-7250543B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6577-7501-4717-A71C-75AB3418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D115F-3475-4B3D-9E90-3851687F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F0BCC8-088E-4698-B896-099809C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293A64-72A7-425E-8931-DF732EFD0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E1A6BD-A61B-4D84-83D6-88782579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566C2-5710-4776-B9D7-F442DC7C9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879978-6028-4057-BF9E-DA8A48E1F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6EC6D-FA56-4367-87B3-0EE76C6E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C235BB-5FA2-4860-B5EE-5E878248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FD54B-32E1-417E-AA99-F57F0ADED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B3F2-64CE-4231-B540-31559912E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4F284-63BF-4E88-AB36-F10433BAA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CB03-12FE-4FE2-A4D4-6A6A32C7A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81174-947C-45DD-9582-C2F4AB3B7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90A0A0-A65B-4AD3-B9B7-E7CA3540B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6440-1075-470F-BB4A-AD7BC3F4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0355B-1A89-4CDA-9158-1DE7874D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286B9-0B1B-45D3-B0CF-9AC1686E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4774C-B591-40B2-A61D-CD1845D7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31C1E-9C68-4AC6-B75F-B0A3EFD02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DFA4A-EF75-4AFA-BBB6-99084101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22DC-3CB5-4C54-9270-3C2A111AE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FB0198-C2AA-46F0-B80D-620DFA21E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CEDE01-68AF-4EFA-90B6-2C391A13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081BB-BB9A-4FC8-BD8F-5DCEBEB6B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17788-D836-4E59-98B3-5A4808F1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EF0EF-E4A0-4D51-A0FA-7259746A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B7B298-5F69-477D-B4A0-A0B984B4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57097-9247-4B1F-AF05-FA3EA3D4B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263E0-7BBC-4459-8E02-81C5DBA2D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768240" y="585360"/>
            <a:ext cx="729000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FD6FAB-6B97-4D93-B6AA-2F09331A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6255BF-2B3C-427A-8EA2-D5A93272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DB86-161B-42BD-B43C-196264F2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6A4421-8DB2-4059-9C72-42243022B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599406-AB76-4B47-AF36-16F067DD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50714-9BA8-41EF-9496-D60A7B91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503600" y="438696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73B43-E2AF-45E2-A9EA-12696EE2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316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698080" y="228600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76824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316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5698080" y="4386960"/>
            <a:ext cx="23472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4266BF-63F7-4FAD-9E5C-1E0F28B0F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6824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03600" y="2286000"/>
            <a:ext cx="35571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68240" y="4386960"/>
            <a:ext cx="729000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EFE-BA3B-4AF1-9668-6D374662C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4D275-DBF3-4710-A3B3-FE22E807C742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6b7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Rectangle 8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44" name="Rectangle 8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B405-EC16-43E7-A1F8-60AE73C16F1F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Rectangle 7"/>
          <p:cNvGrpSpPr/>
          <p:nvPr/>
        </p:nvGrpSpPr>
        <p:grpSpPr>
          <a:xfrm>
            <a:off x="0" y="0"/>
            <a:ext cx="9144000" cy="4572000"/>
            <a:chOff x="0" y="0"/>
            <a:chExt cx="9144000" cy="4572000"/>
          </a:xfrm>
        </p:grpSpPr>
        <p:pic>
          <p:nvPicPr>
            <p:cNvPr id="88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0" y="0"/>
              <a:ext cx="9144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" name="Straight Connector 8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b5ae5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5B03B-CA15-4547-AD3A-41351D3CB952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6B378-FC66-42AD-A39B-131BF4C803EB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traight Connector 7"/>
          <p:cNvSpPr/>
          <p:nvPr/>
        </p:nvSpPr>
        <p:spPr>
          <a:xfrm flipV="1">
            <a:off x="6289560" y="526428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3BD9-04B2-4342-9F65-584E40B99E12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Straight Connector 7"/>
          <p:cNvSpPr/>
          <p:nvPr/>
        </p:nvSpPr>
        <p:spPr>
          <a:xfrm>
            <a:off x="7201080" y="515880"/>
            <a:ext cx="685800" cy="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12E10-E05E-4191-8959-B6C74CEFC06C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64b3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Straight Connector 6"/>
          <p:cNvSpPr/>
          <p:nvPr/>
        </p:nvSpPr>
        <p:spPr>
          <a:xfrm flipV="1">
            <a:off x="571680" y="826920"/>
            <a:ext cx="0" cy="914400"/>
          </a:xfrm>
          <a:prstGeom prst="line">
            <a:avLst/>
          </a:prstGeom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767880" y="6470280"/>
            <a:ext cx="16160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631680" y="6470280"/>
            <a:ext cx="44262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8128080" y="6470280"/>
            <a:ext cx="730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w Cen MT Condense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EB7-6FA7-4310-8D88-5805F8FEA754}" type="slidenum">
              <a:rPr b="0" lang="en-US" sz="1000" spc="-1" strike="noStrike">
                <a:solidFill>
                  <a:srgbClr val="ffffff"/>
                </a:solidFill>
                <a:latin typeface="Tw Cen MT Condensed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3080" y="4959360"/>
            <a:ext cx="5829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PRETERITE VS. IMPERFEC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457680" y="4959360"/>
            <a:ext cx="240012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w Cen MT"/>
              </a:rPr>
              <a:t>When to use these past tenses</a:t>
            </a: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EXAMPLES OF THE PRETERITE VS. THE IMPERFECT TENSES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ó anoche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studied last night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aba todas las noche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used to study every night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Beto estudiaba cuando se durmió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to was studying when he fell asleep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WHEN TO USE THE PRETERIT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complet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completed at a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specific tim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was completed a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specific number of ti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began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or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end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When an action </a:t>
            </a: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interrupts</a:t>
            </a: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 another action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PHRASES THAT INDICATE USE OF THE PRETERITE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7000"/>
          </a:bodyPr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nteayer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noch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Desde el primer moment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Durante dos siglo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otro dí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n ese moment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ntonce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7480" indent="-8748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sta mañan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año pasad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Hace dos día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Hace cuatro años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 por la mañan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Ayer por la tard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sta tarde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La semana pasada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w Cen MT"/>
              </a:rPr>
              <a:t>El mes pasado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WHEN TO USE THE IMPERFECT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state in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general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when an action took plac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describe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background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informatio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weather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tell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tell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age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describe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physical and mental states and conditions, including feeling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habitual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actions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what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used to</a:t>
            </a: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 happen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6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To express what </a:t>
            </a:r>
            <a:r>
              <a:rPr b="0" i="1" lang="en-US" sz="2400" spc="-1" strike="noStrike">
                <a:solidFill>
                  <a:srgbClr val="ffffff"/>
                </a:solidFill>
                <a:latin typeface="Tw Cen MT"/>
              </a:rPr>
              <a:t>was/were…ing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PHRASES THAT INDICATE USE OF THE IMPERFECT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 menud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A vec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dí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seman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m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ada añ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Nun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En aquella époc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Frecuentemen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Generalmen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chas veces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Mucho 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De vez en cuando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Con frecuencia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¡OJO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w Cen MT"/>
              </a:rPr>
              <a:t>Some verbs change meaning depending on whether they are in the preterite or in the imperfect…</a:t>
            </a: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  <a:p>
            <a:pPr marL="90360"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13" name="Picture 9" descr="MPj04067000000[1]"/>
          <p:cNvPicPr/>
          <p:nvPr/>
        </p:nvPicPr>
        <p:blipFill>
          <a:blip r:embed="rId1"/>
          <a:stretch/>
        </p:blipFill>
        <p:spPr>
          <a:xfrm>
            <a:off x="3809880" y="914400"/>
            <a:ext cx="1752840" cy="1166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w Cen MT Condensed"/>
              </a:rPr>
              <a:t>VERBS THAT CHANGE MEANING IN THE PRETERITE AND IMPERFECT</a:t>
            </a:r>
            <a:endParaRPr b="0" lang="en-US" sz="40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767880" y="2286000"/>
            <a:ext cx="35658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Preterit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Querer- tri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 querer-refus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onocer-me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Saber-found ou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Poder-succeeded</a:t>
            </a: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ener-receiv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492800" y="2286000"/>
            <a:ext cx="356544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Tw Cen MT"/>
              </a:rPr>
              <a:t>Imperfect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Querer-wanted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No querer- </a:t>
            </a:r>
            <a:r>
              <a:rPr b="1" lang="en-US" sz="2400" spc="-1" strike="noStrike">
                <a:solidFill>
                  <a:srgbClr val="ffffff"/>
                </a:solidFill>
                <a:latin typeface="Tw Cen MT"/>
              </a:rPr>
              <a:t>didn’t want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Conocer-kne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Saber-knew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Poder-was abl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93a299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Tener-used to have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EXAMPLES OF THE PRETERITE TENS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98000"/>
          </a:bodyPr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Paco trabajó al supermercado hace dos años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w Cen MT"/>
              </a:rPr>
              <a:t>Paco worked at the supermarket 2 years ago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Tw Cen MT"/>
              </a:rPr>
              <a:t>Yo leí el periódico ayer por la tarde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ffffff"/>
                </a:solidFill>
                <a:latin typeface="Tw Cen MT"/>
              </a:rPr>
              <a:t>I read the newspaper yesterday afternoon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w Cen MT"/>
              </a:rPr>
              <a:t>Comimos una torta a la fiesta el viernes pasado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  <a:p>
            <a:pPr marL="88200" indent="-882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ffffff"/>
                </a:solidFill>
                <a:latin typeface="Tw Cen MT"/>
              </a:rPr>
              <a:t>We ate a cake at the party last Friday.</a:t>
            </a:r>
            <a:endParaRPr b="0" lang="en-US" sz="22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68240" y="585360"/>
            <a:ext cx="72900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w Cen MT Condensed"/>
              </a:rPr>
              <a:t>EXAMPLES OF THE IMPERFECT TENSE</a:t>
            </a:r>
            <a:endParaRPr b="0" lang="en-US" sz="4400" spc="-1" strike="noStrike">
              <a:solidFill>
                <a:srgbClr val="ffffff"/>
              </a:solidFill>
              <a:latin typeface="Tw Cen MT Condensed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768240" y="2286000"/>
            <a:ext cx="729000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Hacía mal tiemp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It was bad weather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Yo tenía miedo de la tormenta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I was afraid of the storm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Mi abuelo tenía 84 años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My grandfather was 84 years old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w Cen MT"/>
              </a:rPr>
              <a:t>Mi padre era un chico malo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w Cen MT"/>
              </a:rPr>
              <a:t>My father was a bad boy.</a:t>
            </a: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5T15:40:41Z</dcterms:created>
  <dc:creator>kozielskim</dc:creator>
  <dc:description/>
  <dc:language>en-US</dc:language>
  <cp:lastModifiedBy>Prine, Stephanie</cp:lastModifiedBy>
  <dcterms:modified xsi:type="dcterms:W3CDTF">2014-05-16T12:49:26Z</dcterms:modified>
  <cp:revision>23</cp:revision>
  <dc:subject/>
  <dc:title>PRETERITE VS. IMPERFECT</dc:title>
</cp:coreProperties>
</file>